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71C-219F-49CD-BD41-430DACCA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8EA-A5D5-4CB0-AD1E-25BC3D5E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DB1-DCCD-4CF7-8B75-4A4FB759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DCF-BC9C-4A83-A228-CF288306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2B1-7FFC-44A1-8904-12D0B82F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31F-655E-4584-9A29-DFA2ACB3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093-60A7-49D6-963B-9376777C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DE7-5345-419E-A16E-38BE5863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B46-F468-4FE9-B849-AF4C02FB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7E7-153F-42F5-808E-8DDD6C8D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B9B-384E-47B9-8DB2-F38497AF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E1EB-4A9B-41C7-8D9B-FCEDFDF0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2319-3D31-42AE-952B-B8930E80B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ny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u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going to talk about   funny animals .You better like animals or ells you are boring. :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0384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46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6:42Z</dcterms:modified>
  <cp:revision>4</cp:revision>
  <dc:subject/>
  <dc:title>When I Met You</dc:title>
</cp:coreProperties>
</file>